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30A3-95BA-4C7D-86AC-5B60BEAE6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355B-7BE3-4EE6-8CAB-D541A3EB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C1A-F2FA-4E27-9246-158E9C20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329-4DDD-47FC-80D7-7B13A988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49F-DE7F-4423-B254-9D48AF97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AF0-A2F1-46FF-9D53-4CB21CC8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A18-B064-44EC-9B23-03F9D97D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441-60C9-473B-9AFD-CA826FA7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047-89B8-4419-AF9C-FC9910A1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FFE-5639-4FB8-9B35-56A0A620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3B1-FB79-4E81-9915-6D1D75B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16F-2D4B-4081-BEDE-75760D53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5EC-8F24-48B9-BCC9-9FB0312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D24-B46A-47CF-9CB2-946BAEDD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8F07-821F-4AC7-A40A-1E56F229B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sha Mohanl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sha Mohan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días, como esta su dí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200400"/>
            <a:ext cx="22096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sha. Yo vivo New York, Queens. Yo tengo catorce años. Yo  tengo un hermáno mayun, sue es Steve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27672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73356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 tú mi amór!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438280"/>
            <a:ext cx="3886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uenas tardes!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Mi día es  muy bueno y tú?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qué estás haciendo.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lindó! Yo quérie comer helado y tú?  Te guesta:  Commentario  5 sceonds ago   December 5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0:40Z</dcterms:created>
  <dc:creator>FriscoISD</dc:creator>
  <dc:description/>
  <dc:language>en-US</dc:language>
  <cp:lastModifiedBy>User</cp:lastModifiedBy>
  <dcterms:modified xsi:type="dcterms:W3CDTF">2012-12-05T14:57:11Z</dcterms:modified>
  <cp:revision>105</cp:revision>
  <dc:subject/>
  <dc:title>Profile</dc:title>
</cp:coreProperties>
</file>